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1412" spc="-1" strike="noStrike">
                <a:solidFill>
                  <a:srgbClr val="000000"/>
                </a:solidFill>
                <a:latin typeface="Arial"/>
              </a:defRPr>
            </a:pPr>
            <a:r>
              <a:rPr b="0" sz="1412" spc="-1" strike="noStrike">
                <a:solidFill>
                  <a:srgbClr val="000000"/>
                </a:solidFill>
                <a:latin typeface="Arial"/>
              </a:rPr>
              <a:t>GUAICURU</a:t>
            </a:r>
          </a:p>
        </c:rich>
      </c:tx>
      <c:layout>
        <c:manualLayout>
          <c:xMode val="edge"/>
          <c:yMode val="edge"/>
          <c:x val="0.449273650643675"/>
          <c:y val="0.0200593903399794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8417385142317"/>
          <c:y val="0.111690200593903"/>
          <c:w val="0.959804732097162"/>
          <c:h val="0.867886794739713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Guaicuru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7"/>
                <c:pt idx="0">
                  <c:v>2008 agosto</c:v>
                </c:pt>
                <c:pt idx="1">
                  <c:v>2008 setembro</c:v>
                </c:pt>
                <c:pt idx="2">
                  <c:v>2008 outubro</c:v>
                </c:pt>
                <c:pt idx="3">
                  <c:v>2008 novembro</c:v>
                </c:pt>
                <c:pt idx="4">
                  <c:v>2009 março</c:v>
                </c:pt>
                <c:pt idx="5">
                  <c:v>2009 abril</c:v>
                </c:pt>
                <c:pt idx="6">
                  <c:v>2009 maio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7"/>
                <c:pt idx="0">
                  <c:v>43.55</c:v>
                </c:pt>
                <c:pt idx="1">
                  <c:v>8.87</c:v>
                </c:pt>
                <c:pt idx="2">
                  <c:v>9.52</c:v>
                </c:pt>
                <c:pt idx="3">
                  <c:v>41.46</c:v>
                </c:pt>
                <c:pt idx="4">
                  <c:v>47.32</c:v>
                </c:pt>
                <c:pt idx="5">
                  <c:v>53.72</c:v>
                </c:pt>
                <c:pt idx="6">
                  <c:v>96.08</c:v>
                </c:pt>
              </c:numCache>
            </c:numRef>
          </c:val>
        </c:ser>
        <c:gapWidth val="100"/>
        <c:overlap val="0"/>
        <c:axId val="13989132"/>
        <c:axId val="98947841"/>
      </c:barChart>
      <c:catAx>
        <c:axId val="13989132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1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947841"/>
        <c:crossesAt val="0"/>
        <c:auto val="1"/>
        <c:lblAlgn val="ctr"/>
        <c:lblOffset val="100"/>
        <c:noMultiLvlLbl val="0"/>
      </c:catAx>
      <c:valAx>
        <c:axId val="989478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989132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2090" spc="-1" strike="noStrike">
                <a:solidFill>
                  <a:srgbClr val="000000"/>
                </a:solidFill>
                <a:latin typeface="Arial"/>
              </a:defRPr>
            </a:pPr>
            <a:r>
              <a:rPr b="0" sz="2090" spc="-1" strike="noStrike">
                <a:solidFill>
                  <a:srgbClr val="000000"/>
                </a:solidFill>
                <a:latin typeface="Arial"/>
              </a:rPr>
              <a:t>GUAICURU 2008</a:t>
            </a:r>
          </a:p>
        </c:rich>
      </c:tx>
      <c:layout>
        <c:manualLayout>
          <c:xMode val="edge"/>
          <c:yMode val="edge"/>
          <c:x val="0.391086965080115"/>
          <c:y val="0.0198905208389789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8417385142317"/>
          <c:y val="0.104492981410222"/>
          <c:w val="0.801700720444077"/>
          <c:h val="0.85512980326269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DIPONIVEL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Agosto</c:v>
                </c:pt>
                <c:pt idx="1">
                  <c:v>Setembro</c:v>
                </c:pt>
                <c:pt idx="2">
                  <c:v>Outubro</c:v>
                </c:pt>
                <c:pt idx="3">
                  <c:v>Novembro</c:v>
                </c:pt>
                <c:pt idx="4">
                  <c:v>TOTAL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5"/>
                <c:pt idx="0">
                  <c:v>124</c:v>
                </c:pt>
                <c:pt idx="1">
                  <c:v>124</c:v>
                </c:pt>
                <c:pt idx="2">
                  <c:v>42</c:v>
                </c:pt>
                <c:pt idx="3">
                  <c:v>123</c:v>
                </c:pt>
                <c:pt idx="4">
                  <c:v>41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UTILIZADA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Agosto</c:v>
                </c:pt>
                <c:pt idx="1">
                  <c:v>Setembro</c:v>
                </c:pt>
                <c:pt idx="2">
                  <c:v>Outubro</c:v>
                </c:pt>
                <c:pt idx="3">
                  <c:v>Novembro</c:v>
                </c:pt>
                <c:pt idx="4">
                  <c:v>TOTAL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5"/>
                <c:pt idx="0">
                  <c:v>54</c:v>
                </c:pt>
                <c:pt idx="1">
                  <c:v>11</c:v>
                </c:pt>
                <c:pt idx="2">
                  <c:v>4</c:v>
                </c:pt>
                <c:pt idx="3">
                  <c:v>51</c:v>
                </c:pt>
                <c:pt idx="4">
                  <c:v>120</c:v>
                </c:pt>
              </c:numCache>
            </c:numRef>
          </c:val>
        </c:ser>
        <c:gapWidth val="100"/>
        <c:overlap val="0"/>
        <c:axId val="85152553"/>
        <c:axId val="1184234"/>
      </c:barChart>
      <c:catAx>
        <c:axId val="85152553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84234"/>
        <c:crossesAt val="0"/>
        <c:auto val="1"/>
        <c:lblAlgn val="ctr"/>
        <c:lblOffset val="100"/>
        <c:noMultiLvlLbl val="0"/>
      </c:catAx>
      <c:valAx>
        <c:axId val="11842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152553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layout>
        <c:manualLayout>
          <c:xMode val="edge"/>
          <c:yMode val="edge"/>
          <c:x val="0.841620408645329"/>
          <c:y val="0.439054793778115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286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0"/>
    <c:dispBlanksAs val="gap"/>
  </c:chart>
  <c:spPr>
    <a:solidFill>
      <a:srgbClr val="ffffff"/>
    </a:solidFill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1674" spc="-1" strike="noStrike">
                <a:solidFill>
                  <a:srgbClr val="000000"/>
                </a:solidFill>
                <a:latin typeface="Arial"/>
              </a:defRPr>
            </a:pPr>
            <a:r>
              <a:rPr b="0" sz="1674" spc="-1" strike="noStrike">
                <a:solidFill>
                  <a:srgbClr val="000000"/>
                </a:solidFill>
                <a:latin typeface="Arial"/>
              </a:rPr>
              <a:t>GUAICURU 2009</a:t>
            </a:r>
          </a:p>
        </c:rich>
      </c:tx>
      <c:layout>
        <c:manualLayout>
          <c:xMode val="edge"/>
          <c:yMode val="edge"/>
          <c:x val="0.412779024447856"/>
          <c:y val="0.0200010929558992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8023699854336"/>
          <c:y val="0.122575004098585"/>
          <c:w val="0.829219322073934"/>
          <c:h val="0.836930979834964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DIPONIVEL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Março</c:v>
                </c:pt>
                <c:pt idx="1">
                  <c:v>Abril</c:v>
                </c:pt>
                <c:pt idx="2">
                  <c:v>Maio</c:v>
                </c:pt>
                <c:pt idx="3">
                  <c:v>TOTAL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112</c:v>
                </c:pt>
                <c:pt idx="1">
                  <c:v>121</c:v>
                </c:pt>
                <c:pt idx="2">
                  <c:v>102</c:v>
                </c:pt>
                <c:pt idx="3">
                  <c:v>33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UTILIZADA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Março</c:v>
                </c:pt>
                <c:pt idx="1">
                  <c:v>Abril</c:v>
                </c:pt>
                <c:pt idx="2">
                  <c:v>Maio</c:v>
                </c:pt>
                <c:pt idx="3">
                  <c:v>TOTAL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53</c:v>
                </c:pt>
                <c:pt idx="1">
                  <c:v>65</c:v>
                </c:pt>
                <c:pt idx="2">
                  <c:v>98</c:v>
                </c:pt>
                <c:pt idx="3">
                  <c:v>216</c:v>
                </c:pt>
              </c:numCache>
            </c:numRef>
          </c:val>
        </c:ser>
        <c:gapWidth val="100"/>
        <c:overlap val="0"/>
        <c:axId val="89699440"/>
        <c:axId val="56834833"/>
      </c:barChart>
      <c:catAx>
        <c:axId val="89699440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834833"/>
        <c:crossesAt val="0"/>
        <c:auto val="1"/>
        <c:lblAlgn val="ctr"/>
        <c:lblOffset val="100"/>
        <c:noMultiLvlLbl val="0"/>
      </c:catAx>
      <c:valAx>
        <c:axId val="568348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699440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layout>
        <c:manualLayout>
          <c:xMode val="edge"/>
          <c:yMode val="edge"/>
          <c:x val="0.869139010275186"/>
          <c:y val="0.421771681512651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03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0"/>
    <c:dispBlanksAs val="gap"/>
  </c:chart>
  <c:spPr>
    <a:solidFill>
      <a:srgbClr val="ffffff"/>
    </a:solidFill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667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4E0AB5-09E2-467C-9D1D-2C4387A171A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003320" y="695160"/>
            <a:ext cx="48481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D05B-AD42-46B3-997F-D8C772F41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42840"/>
            <a:ext cx="705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2203560"/>
            <a:ext cx="84931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4345560"/>
            <a:ext cx="84931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97BE-6BC5-4EC6-8425-6EE550136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42840"/>
            <a:ext cx="705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2203560"/>
            <a:ext cx="41443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7320" y="2203560"/>
            <a:ext cx="41443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4345560"/>
            <a:ext cx="41443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7320" y="4345560"/>
            <a:ext cx="41443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AFEF-DC00-4DEA-89D6-339E0E038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42840"/>
            <a:ext cx="705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2203560"/>
            <a:ext cx="273456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7000" y="2203560"/>
            <a:ext cx="273456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38720" y="2203560"/>
            <a:ext cx="273456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4345560"/>
            <a:ext cx="273456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7000" y="4345560"/>
            <a:ext cx="273456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38720" y="4345560"/>
            <a:ext cx="273456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ED6C-85CC-4FF0-A23D-CB3678EBE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42840"/>
            <a:ext cx="705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95280" y="2203560"/>
            <a:ext cx="849312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42840"/>
            <a:ext cx="705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2203560"/>
            <a:ext cx="8493120" cy="41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42840"/>
            <a:ext cx="705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2203560"/>
            <a:ext cx="4144320" cy="41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47320" y="2203560"/>
            <a:ext cx="4144320" cy="41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42840"/>
            <a:ext cx="705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79280" y="42840"/>
            <a:ext cx="7051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42840"/>
            <a:ext cx="705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5280" y="2203560"/>
            <a:ext cx="41443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47320" y="2203560"/>
            <a:ext cx="4144320" cy="41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95280" y="4345560"/>
            <a:ext cx="41443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42840"/>
            <a:ext cx="705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2203560"/>
            <a:ext cx="849312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2CBB-CB45-40E6-AA31-93D036CA2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42840"/>
            <a:ext cx="705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5280" y="2203560"/>
            <a:ext cx="4144320" cy="41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7320" y="2203560"/>
            <a:ext cx="41443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47320" y="4345560"/>
            <a:ext cx="41443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42840"/>
            <a:ext cx="705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2203560"/>
            <a:ext cx="41443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7320" y="2203560"/>
            <a:ext cx="41443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5280" y="4345560"/>
            <a:ext cx="84931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42840"/>
            <a:ext cx="705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5280" y="2203560"/>
            <a:ext cx="84931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95280" y="4345560"/>
            <a:ext cx="84931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42840"/>
            <a:ext cx="705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2203560"/>
            <a:ext cx="41443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47320" y="2203560"/>
            <a:ext cx="41443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95280" y="4345560"/>
            <a:ext cx="41443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47320" y="4345560"/>
            <a:ext cx="41443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42840"/>
            <a:ext cx="705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2203560"/>
            <a:ext cx="273456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67000" y="2203560"/>
            <a:ext cx="273456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38720" y="2203560"/>
            <a:ext cx="273456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95280" y="4345560"/>
            <a:ext cx="273456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67000" y="4345560"/>
            <a:ext cx="273456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38720" y="4345560"/>
            <a:ext cx="273456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42840"/>
            <a:ext cx="705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2203560"/>
            <a:ext cx="8493120" cy="41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53CC-1E19-44F4-BF09-5904799E7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42840"/>
            <a:ext cx="705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2203560"/>
            <a:ext cx="4144320" cy="41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7320" y="2203560"/>
            <a:ext cx="4144320" cy="41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95AE-E9BA-4033-975D-3FCB1DABF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42840"/>
            <a:ext cx="705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5DD8-A694-4B45-82EF-CE034853C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42840"/>
            <a:ext cx="7051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8426-0C61-457A-8AFF-8EA95EC8D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42840"/>
            <a:ext cx="705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2203560"/>
            <a:ext cx="41443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7320" y="2203560"/>
            <a:ext cx="4144320" cy="41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4345560"/>
            <a:ext cx="41443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B597-3AC6-4332-BEFD-0EB2743C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42840"/>
            <a:ext cx="705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2203560"/>
            <a:ext cx="4144320" cy="41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7320" y="2203560"/>
            <a:ext cx="41443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7320" y="4345560"/>
            <a:ext cx="41443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3F17-D637-4ABF-B542-CE76E4AD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42840"/>
            <a:ext cx="705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2203560"/>
            <a:ext cx="41443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7320" y="2203560"/>
            <a:ext cx="41443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4345560"/>
            <a:ext cx="84931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2429-2CA7-40A5-8497-35F61DAB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42840"/>
            <a:ext cx="705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5280" y="2203560"/>
            <a:ext cx="8493120" cy="41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98200" y="6435360"/>
            <a:ext cx="115740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29/07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22560" y="6435360"/>
            <a:ext cx="525312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87280" y="6435360"/>
            <a:ext cx="53496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97B10B-58AC-4959-8696-7917C217B92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42840"/>
            <a:ext cx="705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95280" y="2203560"/>
            <a:ext cx="8493120" cy="41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chart" Target="../charts/chart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chart" Target="../charts/chart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chart" Target="../charts/chart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home/welitton/Documentos/segundo%20semestre%2009/Reuni&#245;es/Cronograma%20-%20PNTE.doc" TargetMode="External"/><Relationship Id="rId3" Type="http://schemas.openxmlformats.org/officeDocument/2006/relationships/hyperlink" Target="file:///home/welitton/Documentos/segundo%20semestre%2009/Reuni&#245;es/Cronograma%20-%20PSTE.doc" TargetMode="External"/><Relationship Id="rId4" Type="http://schemas.openxmlformats.org/officeDocument/2006/relationships/hyperlink" Target="file:///home/welitton/Documentos/segundo%20semestre%2009/Reuni&#245;es/Cronograma%20-%20completo.doc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332000" y="1197000"/>
            <a:ext cx="64818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EE GUAICURU</a:t>
            </a:r>
            <a:br>
              <a:rPr sz="4400"/>
            </a:b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ANAURILÂNDIA - 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300640"/>
            <a:ext cx="8497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UNIÃO SEMES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2920" y="-63360"/>
            <a:ext cx="705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 u="sng">
                <a:solidFill>
                  <a:srgbClr val="ffffff"/>
                </a:solidFill>
                <a:uFillTx/>
                <a:latin typeface="Arial"/>
              </a:rPr>
              <a:t>Dados conclus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rofessor Multiplicador Welitton Fabiano da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0" y="900000"/>
          <a:ext cx="9144000" cy="5940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286000" y="979560"/>
            <a:ext cx="58784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ulas disponíveis e executa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0" y="179280"/>
          <a:ext cx="9144000" cy="6642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720720" y="6300720"/>
            <a:ext cx="52196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 Multiplicador Welitton Fabiano da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0" y="271440"/>
          <a:ext cx="9144000" cy="65865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79280" y="-322200"/>
            <a:ext cx="705672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LGUNS PONTOS PARA REFLETIR: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2203560"/>
            <a:ext cx="84978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A comunicação entre PNTE e PSTE deve ser constante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Os e-mails devem ser lidos por todo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O MSN deve ficar ligado no período em que o Professor da STE estiver na sala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Os prazos deverão ser cumpridos, podendo ser alterado com justificativa prévia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rofessor Multiplicador Welitton Fabiano da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95280" y="2203560"/>
            <a:ext cx="84978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Será responsabilizado o profissional que não cumprir com suas atribuições (professor do NTE, STE e professores regentes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Será construído portfólio online das atividades desenvolvidas na STE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Todos os planos de aula dos professores deverão ser assinados pelo coordenador do turno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rofessor Multiplicador Welitton Fabiano da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95280" y="2203560"/>
            <a:ext cx="84978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7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professor com </a:t>
            </a:r>
            <a:r>
              <a:rPr b="0" lang="pt-BR" sz="2200" spc="-1" strike="noStrike">
                <a:solidFill>
                  <a:srgbClr val="66ff33"/>
                </a:solidFill>
                <a:latin typeface="Arial"/>
              </a:rPr>
              <a:t>20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horas, disponibilizará </a:t>
            </a:r>
            <a:r>
              <a:rPr b="0" lang="pt-BR" sz="2200" spc="-1" strike="noStrike">
                <a:solidFill>
                  <a:srgbClr val="66ff33"/>
                </a:solidFill>
                <a:latin typeface="Arial"/>
              </a:rPr>
              <a:t>18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aulas para ser usadas com professores e alunos e </a:t>
            </a:r>
            <a:r>
              <a:rPr b="0" lang="pt-BR" sz="2200" spc="-1" strike="noStrike">
                <a:solidFill>
                  <a:srgbClr val="66ff33"/>
                </a:solidFill>
                <a:latin typeface="Arial"/>
              </a:rPr>
              <a:t>4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aulas para planejamento junto aos coordenadores e professores regentes e </a:t>
            </a:r>
            <a:r>
              <a:rPr b="0" lang="pt-BR" sz="2200" spc="-1" strike="noStrike">
                <a:solidFill>
                  <a:srgbClr val="66ff33"/>
                </a:solidFill>
                <a:latin typeface="Arial"/>
              </a:rPr>
              <a:t>2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para pesquisa externa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quadro de planejamento mensal do professor da STE deverá se adequar ao horário de atividades do professor regente, acompanhado pelos coordenadore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ada professor da STE deve ser responsável pelo preenchimento do relatório de utilização de seu turno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uso das mídias externa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rofessor Multiplicador Welitton Fabiano da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79280" y="189000"/>
            <a:ext cx="705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Combinado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5280" y="2203560"/>
            <a:ext cx="84978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Quadro de PL do professor da STE de cada mês será elaborado 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um acordo com a coordenação pedagógica e direção da escol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envio do quadro de PL e relatório será até o 5º dia útil de cada mê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turno que optar pelas aulas programadas, as mesmas deverão 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ncaminhadas ao NTE, no quadro de PL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té o 10º dia útil de cada mês o Professor do NTE se reunirá com 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fessores da STE para discutirem as ações desenvolvidas no mês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previstas para o mês seguin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 planos de aula entregue pelos professores regentes devem est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rganizados em pasta, de forma cronológica e de fácil acesso, po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nsalmente o professor do NTE fará visita para conferir os relatóri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rofessor Multiplicador Welitton Fabiano da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95280" y="2203560"/>
            <a:ext cx="84978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ão serão consideradas as aulas registradas sem 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lano do profess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da plano deve conter no máximo 3 aulas, mais 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sso é necessário projeto de ensin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rá elaborado portfólio on-line das atividades desenvolvid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a STE para orientações pedagógic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 prazos de atividades previstas, não justificadas e n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umpridas serão registradas em documento própri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orientações serão feitas por e-mail ou pessoalmen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so o professor da STE seja questionado e não souber orientar 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fessores, os mesmos se comprometerão em buscar apoio junto a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fessor do N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rofessor Multiplicador Welitton Fabiano da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95280" y="2203560"/>
            <a:ext cx="84978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s professores que receberem capacitação e não mostrarem interesse em ser capacitados assumirão as responsabilidad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da professor da STE se responsabilizará em fazer a relação dos professores que não utilizaram a STE no decorrer do mê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rofessor Multiplicador Welitton Fabiano da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79280" y="189000"/>
            <a:ext cx="705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4 - Apresentar e discutir cronograma de ações NTE/STE para o 2º semestre de 200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5280" y="2203560"/>
            <a:ext cx="84978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ronograma de ação do P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Cronograma de ação do P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Cronograma de ação Compl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rofessor Multiplicador Welitton Fabiano da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79280" y="189000"/>
            <a:ext cx="705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OBJETIVO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2203560"/>
            <a:ext cx="84978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Apresentar alguns pontos que devem ser mudados para o bom andamento do trabalho na STE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Apresentar as ações que foram desenvolvidas pelos professores multiplicadores (NTE – STE) no 1º semestre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Apresentar, analisar e refletir a respeito do uso da STE da escola no 1º semestre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Elaborar cronograma de ações dos professores da STE no 2º semestre para formação in loco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 Multiplicador Welitton Fabiano da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95280" y="2203560"/>
            <a:ext cx="84978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sulte não a seus medos mas a suas esperanças e sonhos. Pense não sobre suas frustrações, mas sobre seu potencial não usado. Preocupe-se não com o que você tentou e falhou, mas com aquilo que ainda é possível a você fazer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( Papa João XXIII 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rofessor Multiplicador Welitton Fabiano da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28800" y="2858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REFLEXÃO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79280" y="189000"/>
            <a:ext cx="705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ESTRUTUR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2203560"/>
            <a:ext cx="84978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1. Apresentar as ações previstas, executadas e a executar pelos professores do NTE e STE no 1º semestre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2. Apresentar a realidade de uso da STE nos meses de março – abril – mai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3. Identificar os professores que usaram as tecnologias efetivamente no 1º semestre e os que não utilizaram e qual turno apresentou menos uso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4. Apresentar e discutir cronograma de ações NTE/STE para o 2º semestre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 Multiplicador Welitton Fabiano da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79280" y="0"/>
            <a:ext cx="705672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0" y="588960"/>
          <a:ext cx="9183600" cy="6269040"/>
        </p:xfrm>
        <a:graphic>
          <a:graphicData uri="http://schemas.openxmlformats.org/drawingml/2006/table">
            <a:tbl>
              <a:tblPr/>
              <a:tblGrid>
                <a:gridCol w="3759120"/>
                <a:gridCol w="3313080"/>
                <a:gridCol w="2111400"/>
              </a:tblGrid>
              <a:tr h="437760">
                <a:tc>
                  <a:txBody>
                    <a:bodyPr lIns="90000" rIns="90000" tIns="4536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536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JE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536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Ê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925560">
                <a:tc>
                  <a:txBody>
                    <a:bodyPr lIns="90000" rIns="90000" tIns="25200" bIns="46800" anchor="ctr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contro entre Professores Regentes e das STEs para reflexão sobre o trabalho desenvolvido na STE, trocas de experiências e sugestões de atividades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5360" bIns="46800" anchor="ctr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iar um intercâmbio entre os professores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536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 e JULH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763200">
                <a:tc>
                  <a:txBody>
                    <a:bodyPr lIns="90000" rIns="90000" tIns="252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rso básico de informática – Módulo I: internet como ferramenta de pesqui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5360" bIns="46800" anchor="ctr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ferecer instrumental para apoio nas atividades pedagógica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536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763560">
                <a:tc>
                  <a:txBody>
                    <a:bodyPr lIns="90000" rIns="90000" tIns="25200" bIns="46800" anchor="ctr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rso básico de informática – Módulo II: paint, power point,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5360" bIns="46800" anchor="ctr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ferecer instrumental para apoio nas atividades pedagógica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536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763200">
                <a:tc>
                  <a:txBody>
                    <a:bodyPr lIns="90000" rIns="90000" tIns="25200" bIns="46800" anchor="ctr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rso básico de informática – Módulo III: movie mak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5360" bIns="46800" anchor="ctr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ferecer instrumental para apoio nas atividades pedagógica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536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763560">
                <a:tc>
                  <a:txBody>
                    <a:bodyPr lIns="90000" rIns="90000" tIns="25200" bIns="46800" anchor="ctr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rsos avançados – Módulo I:  blo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5360" bIns="46800" anchor="ctr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ferecer instrumental para apoio nas atividades pedagógica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536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EMB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763200">
                <a:tc>
                  <a:txBody>
                    <a:bodyPr lIns="90000" rIns="90000" tIns="25200" bIns="46800" anchor="ctr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rsos avançados – Módulo II: wikispa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5360" bIns="46800" anchor="ctr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ferecer instrumental para apoio nas atividades pedagógica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536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 E NOVEMB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089000">
                <a:tc>
                  <a:txBody>
                    <a:bodyPr lIns="90000" rIns="90000" tIns="45360" bIns="46800" anchor="ctr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ficina da informática na educaçã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5360" bIns="46800" anchor="ctr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strar os avanços e soluções para a utilização da tecnologia no ambiente escola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536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293760" y="174600"/>
            <a:ext cx="8850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RONOGRAMA DO PLANO DE AÇÃO DOS PSTEs DA EE GUAICU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95280" y="2203560"/>
            <a:ext cx="84978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2. Realidade de uso da STE nos meses de março – abril – maio e jun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Professores Alcidinéia e Luiz Carl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 Multiplicador Welitton Fabiano da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79280" y="189000"/>
            <a:ext cx="705672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RÇ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 Multiplicador Welitton Fabiano da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4360" y="2276640"/>
            <a:ext cx="482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4941720"/>
            <a:ext cx="20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720720"/>
            <a:ext cx="9144000" cy="613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03280" y="-179280"/>
            <a:ext cx="7056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ABR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 Multiplicador Welitton Fabiano da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71720" y="5072040"/>
            <a:ext cx="2786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71640" y="2133720"/>
            <a:ext cx="266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32000" y="5157720"/>
            <a:ext cx="12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9640" y="720720"/>
            <a:ext cx="809964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06840" y="2798640"/>
            <a:ext cx="2513160" cy="20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539640"/>
            <a:ext cx="9144000" cy="63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60360" y="-243000"/>
            <a:ext cx="705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 Multiplicador Welitton Fabiano da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71760" y="4929120"/>
            <a:ext cx="3000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256536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42920" y="486900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900000"/>
            <a:ext cx="9144000" cy="59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79280" y="0"/>
            <a:ext cx="70567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JUN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 Multiplicador Welitton Fabiano da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680" y="4714920"/>
            <a:ext cx="2857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55640" y="2276640"/>
            <a:ext cx="252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71640" y="515772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1160" y="539640"/>
            <a:ext cx="9132840" cy="6318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1T00:53:38Z</dcterms:created>
  <dc:creator>Luciana Catarino</dc:creator>
  <dc:description/>
  <dc:language>en-US</dc:language>
  <cp:lastModifiedBy>Luciana Catarino</cp:lastModifiedBy>
  <dcterms:modified xsi:type="dcterms:W3CDTF">2009-07-28T20:01:25Z</dcterms:modified>
  <cp:revision>24</cp:revision>
  <dc:subject/>
  <dc:title>EE BRAZ SINIGÁGLIA BATAYPORÃ - MS</dc:title>
</cp:coreProperties>
</file>